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on handout instead so that partners have to talk about it and people are more likely to engage in the math if the answer isn’t right there for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look at examples of each of these in the context of specific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4A32-469A-4157-A6D9-99ACEC879CF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look at examples of each of these in the context of specific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9A04-63C0-4B0F-B744-D20F4FB9052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9D13-3FD6-4C7C-9FB6-DA9A8C529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A690-E5CA-4CD3-8C29-E28049912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6666-3A28-4531-95B6-A2C48FA1C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BCAB0-C34A-4925-A49B-94B0A6D110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A3DF-7D24-4951-8B46-5F83C2965C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E87D-E715-49F4-81A8-B1EC4DADA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5ABA-59F0-4B5B-B6B8-912A51D34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5F25-A3E3-4E1C-93E3-8A6214CDA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FC65-AFE2-48DF-85D6-73D2B8213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0CF1-5193-4A5E-B56F-DDFD954CE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576B-4857-4504-AFE2-55DC0A4C0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EBAE-0169-420E-8F3C-A7E3A1DCA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D805-67BD-46FA-B28C-FDF3CA1F23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C551-56C3-499B-8C45-77B4EE9BC3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Math at the Beac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Grade 5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Sandra F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2478"/>
                </a:solidFill>
                <a:latin typeface="Tahoma"/>
                <a:ea typeface="Tahoma"/>
              </a:rPr>
              <a:t>Erik T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E:\Beach Images\Beach &amp; Water (A - B)\Beach Chair &amp; Umbrella 2.wmf"/>
          <p:cNvPicPr/>
          <p:nvPr/>
        </p:nvPicPr>
        <p:blipFill>
          <a:blip r:embed="rId3"/>
          <a:stretch/>
        </p:blipFill>
        <p:spPr>
          <a:xfrm>
            <a:off x="609480" y="4038480"/>
            <a:ext cx="171144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E:\Beach Images\Beach &amp; Water (C - G)\Desert Island 1.wmf"/>
          <p:cNvPicPr/>
          <p:nvPr/>
        </p:nvPicPr>
        <p:blipFill>
          <a:blip r:embed="rId4"/>
          <a:stretch/>
        </p:blipFill>
        <p:spPr>
          <a:xfrm>
            <a:off x="7162920" y="3962520"/>
            <a:ext cx="1795320" cy="23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E:\Beach Images\Beach &amp; Water (A - B)\Beach Balls 3.wmf"/>
          <p:cNvPicPr/>
          <p:nvPr/>
        </p:nvPicPr>
        <p:blipFill>
          <a:blip r:embed="rId5"/>
          <a:stretch/>
        </p:blipFill>
        <p:spPr>
          <a:xfrm>
            <a:off x="6629400" y="228600"/>
            <a:ext cx="22874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riangle Dot Problem 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4792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bove is a 4 dot triangle where each side has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ts.  It is made using a total of 9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next triangle is a 6 dot triangle.  It ha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tal of 15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ow many dots would you need altogether fo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00 dot triang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1F43-BA40-4E3C-98A6-39C8579EE6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6"/>
          <p:cNvGrpSpPr/>
          <p:nvPr/>
        </p:nvGrpSpPr>
        <p:grpSpPr>
          <a:xfrm>
            <a:off x="2514600" y="2286000"/>
            <a:ext cx="1092240" cy="1041480"/>
            <a:chOff x="2514600" y="2286000"/>
            <a:chExt cx="1092240" cy="1041480"/>
          </a:xfrm>
        </p:grpSpPr>
        <p:sp>
          <p:nvSpPr>
            <p:cNvPr id="89" name="Oval 7"/>
            <p:cNvSpPr/>
            <p:nvPr/>
          </p:nvSpPr>
          <p:spPr>
            <a:xfrm>
              <a:off x="3009960" y="228600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8"/>
            <p:cNvSpPr/>
            <p:nvPr/>
          </p:nvSpPr>
          <p:spPr>
            <a:xfrm>
              <a:off x="2806560" y="256536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"/>
            <p:cNvSpPr/>
            <p:nvPr/>
          </p:nvSpPr>
          <p:spPr>
            <a:xfrm>
              <a:off x="2654280" y="287028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0"/>
            <p:cNvSpPr/>
            <p:nvPr/>
          </p:nvSpPr>
          <p:spPr>
            <a:xfrm>
              <a:off x="2514600" y="31370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1"/>
            <p:cNvSpPr/>
            <p:nvPr/>
          </p:nvSpPr>
          <p:spPr>
            <a:xfrm>
              <a:off x="2844720" y="31496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2"/>
            <p:cNvSpPr/>
            <p:nvPr/>
          </p:nvSpPr>
          <p:spPr>
            <a:xfrm>
              <a:off x="3162240" y="31496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3"/>
            <p:cNvSpPr/>
            <p:nvPr/>
          </p:nvSpPr>
          <p:spPr>
            <a:xfrm>
              <a:off x="3441960" y="31370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4"/>
            <p:cNvSpPr/>
            <p:nvPr/>
          </p:nvSpPr>
          <p:spPr>
            <a:xfrm>
              <a:off x="3327480" y="287028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5"/>
            <p:cNvSpPr/>
            <p:nvPr/>
          </p:nvSpPr>
          <p:spPr>
            <a:xfrm>
              <a:off x="3162240" y="259056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6"/>
          <p:cNvGrpSpPr/>
          <p:nvPr/>
        </p:nvGrpSpPr>
        <p:grpSpPr>
          <a:xfrm>
            <a:off x="3886200" y="1676520"/>
            <a:ext cx="1752120" cy="1638360"/>
            <a:chOff x="3886200" y="1676520"/>
            <a:chExt cx="1752120" cy="1638360"/>
          </a:xfrm>
        </p:grpSpPr>
        <p:sp>
          <p:nvSpPr>
            <p:cNvPr id="99" name="Oval 17"/>
            <p:cNvSpPr/>
            <p:nvPr/>
          </p:nvSpPr>
          <p:spPr>
            <a:xfrm>
              <a:off x="4736880" y="167652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8"/>
            <p:cNvSpPr/>
            <p:nvPr/>
          </p:nvSpPr>
          <p:spPr>
            <a:xfrm>
              <a:off x="4533840" y="195588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9"/>
            <p:cNvSpPr/>
            <p:nvPr/>
          </p:nvSpPr>
          <p:spPr>
            <a:xfrm>
              <a:off x="4381560" y="226080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0"/>
            <p:cNvSpPr/>
            <p:nvPr/>
          </p:nvSpPr>
          <p:spPr>
            <a:xfrm>
              <a:off x="4241880" y="252756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1"/>
            <p:cNvSpPr/>
            <p:nvPr/>
          </p:nvSpPr>
          <p:spPr>
            <a:xfrm>
              <a:off x="4076640" y="283212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2"/>
            <p:cNvSpPr/>
            <p:nvPr/>
          </p:nvSpPr>
          <p:spPr>
            <a:xfrm>
              <a:off x="3886200" y="31118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3"/>
            <p:cNvSpPr/>
            <p:nvPr/>
          </p:nvSpPr>
          <p:spPr>
            <a:xfrm>
              <a:off x="5181480" y="252756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4"/>
            <p:cNvSpPr/>
            <p:nvPr/>
          </p:nvSpPr>
          <p:spPr>
            <a:xfrm>
              <a:off x="5067000" y="226080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5"/>
            <p:cNvSpPr/>
            <p:nvPr/>
          </p:nvSpPr>
          <p:spPr>
            <a:xfrm>
              <a:off x="4902120" y="198108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6"/>
            <p:cNvSpPr/>
            <p:nvPr/>
          </p:nvSpPr>
          <p:spPr>
            <a:xfrm>
              <a:off x="5473440" y="3111840"/>
              <a:ext cx="164880" cy="177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7"/>
            <p:cNvSpPr/>
            <p:nvPr/>
          </p:nvSpPr>
          <p:spPr>
            <a:xfrm>
              <a:off x="5308560" y="280692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8"/>
            <p:cNvSpPr/>
            <p:nvPr/>
          </p:nvSpPr>
          <p:spPr>
            <a:xfrm>
              <a:off x="4190760" y="31244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9"/>
            <p:cNvSpPr/>
            <p:nvPr/>
          </p:nvSpPr>
          <p:spPr>
            <a:xfrm>
              <a:off x="4533840" y="31370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0"/>
            <p:cNvSpPr/>
            <p:nvPr/>
          </p:nvSpPr>
          <p:spPr>
            <a:xfrm>
              <a:off x="4876560" y="31244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1"/>
            <p:cNvSpPr/>
            <p:nvPr/>
          </p:nvSpPr>
          <p:spPr>
            <a:xfrm>
              <a:off x="5168880" y="3124440"/>
              <a:ext cx="164880" cy="177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ink about the mat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group, discuss (quick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tio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Idea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9B7B-17CF-4497-8500-B355A3A95B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599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table, decide what a good answer to this problem would look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431A-A818-49E7-9501-6343359245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Student Samples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20574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 the feedback you would provide to the  stud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0CBA-8F0C-4E39-8E66-5FC3B20470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229600" cy="1509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…Responding to Students in the Momen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267C-3EBD-47AA-83C8-2C82AFCF3D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6"/>
          <p:cNvSpPr/>
          <p:nvPr/>
        </p:nvSpPr>
        <p:spPr>
          <a:xfrm>
            <a:off x="3200400" y="3657600"/>
            <a:ext cx="3429000" cy="1676520"/>
          </a:xfrm>
          <a:prstGeom prst="cloudCallout">
            <a:avLst>
              <a:gd name="adj1" fmla="val -73842"/>
              <a:gd name="adj2" fmla="val -4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you say if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ca9"/>
                </a:solidFill>
                <a:latin typeface="Arial"/>
              </a:rPr>
              <a:t>Dotmocracy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student solutions, look for evidence of multiplicative thinking, generalizations and multiple representatio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D798-C0FE-419D-9F36-B0FD6965B7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uccess Criteria…revisite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120" y="1981080"/>
            <a:ext cx="7543800" cy="24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5000"/>
          </a:bodyPr>
          <a:p>
            <a:pPr marL="32508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a table, discuss any changes you would make to your previously constructed success criteria now that you had the opportunity to look at some student sam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468F-DCED-4DE5-93BE-BE4DFC77E5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2285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eaching mathema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347C-D217-4EDE-A92D-31D6246586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ing and Algebra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reakout 3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D4D9-6C5F-480A-BE66-323AEE77E1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E:\Beach Images\Beach &amp; Water (A - B)\Beach Balls 1.wmf"/>
          <p:cNvPicPr/>
          <p:nvPr/>
        </p:nvPicPr>
        <p:blipFill>
          <a:blip r:embed="rId2"/>
          <a:stretch/>
        </p:blipFill>
        <p:spPr>
          <a:xfrm>
            <a:off x="2666880" y="1905120"/>
            <a:ext cx="36547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ample Solu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following sample solutions and decide if they are a good solution (based on your group’s decision about what a good answer looks lik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4B5A-921C-49CF-B611-B9FA7FB338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 Different Le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Generaliz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cation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explore our sample solutions through this different lens.  Determine where the solutions fit using these frame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434B-928B-4B74-8CAA-E966E0AFA4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eneralization Strateg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1447920"/>
                <a:gridCol w="6781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 a picture or constructing a model to represent the situation to count the desired attrib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the previous term or terms in the sequence to determine subsequent terms (Additive think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le-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a portion as a unit to construct a larger unit by multiplying. There may or may not be an appropriate adjustment for over-or-undercount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s-and-che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sing a rule without regard to why this rule might work. Usually this involves experimenting with various operations and numbers provided in the problem situ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ing an explicit rule that expresses the co-variation of two sets of data, based on information provided in the situation. An explicit rule can allow for the prediction of any term number in the patter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Justification Frame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600" cy="3301920"/>
        </p:xfrm>
        <a:graphic>
          <a:graphicData uri="http://schemas.openxmlformats.org/drawingml/2006/table">
            <a:tbl>
              <a:tblPr/>
              <a:tblGrid>
                <a:gridCol w="3124080"/>
                <a:gridCol w="5105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stification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0: No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s do not address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1: Appeal to external auth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 is made to the correctness stated by some other individual or reference 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2: Empirical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fication is provided through the correctness of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articula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3: Generic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uctive justification is expressed for a particular instan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 4: Deductive jus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ity is given through a deductive argument that is independent of particular ins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feel about these frame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these frameworks match your success criter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(frameworks/success criteria) is more beneficial for students?  teac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24DD-9C31-411A-BE5D-9DA9835E00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bout the mat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as there evidenc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B9AE-E39F-48B6-BBF9-9F21E1DB98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he Border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7 Class Video – 10 x 10 gr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you notice abou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a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structional decisions the teacher mak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D913-13AA-4FFF-81A4-A094C49B7B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E:\Beach Images\Landscapes (A - Ci)\Beach Scene 29.wmf"/>
          <p:cNvPicPr/>
          <p:nvPr/>
        </p:nvPicPr>
        <p:blipFill>
          <a:blip r:embed="rId1"/>
          <a:stretch/>
        </p:blipFill>
        <p:spPr>
          <a:xfrm>
            <a:off x="7391520" y="152280"/>
            <a:ext cx="1496880" cy="1497240"/>
          </a:xfrm>
          <a:prstGeom prst="rect">
            <a:avLst/>
          </a:prstGeom>
          <a:ln w="0">
            <a:noFill/>
          </a:ln>
        </p:spPr>
      </p:pic>
      <p:sp>
        <p:nvSpPr>
          <p:cNvPr id="83" name="Content Placeholder 2"/>
          <p:cNvSpPr/>
          <p:nvPr/>
        </p:nvSpPr>
        <p:spPr>
          <a:xfrm>
            <a:off x="1905120" y="1447920"/>
            <a:ext cx="48765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Erik Teather</cp:lastModifiedBy>
  <dcterms:modified xsi:type="dcterms:W3CDTF">2011-08-16T18:42:15Z</dcterms:modified>
  <cp:revision>81</cp:revision>
  <dc:subject/>
  <dc:title>&lt;Title&gt;</dc:title>
</cp:coreProperties>
</file>